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E88-01E7-4B10-9001-86BDB3E0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DAA-2499-45EC-95E3-CE852AF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D89-D54A-447E-BAE1-5FF42D70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FB4-3DFF-4517-86B2-10480508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44E-68DE-461A-BF49-3391398C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039-94E6-4615-A392-B992E51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162-29B7-46F4-BD8E-A8A83F11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B52-D7BB-4139-BE6C-00AF2ED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60E-CB9C-426B-ACAE-5D24C9A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EEE-E90B-45FA-B263-E83AB34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1B8-9D7D-4DDB-87DF-4980695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A45-46A7-4458-BBDB-54797A3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2389-478A-4F55-A5FC-E7E2C5E78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505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44720" y="3284640"/>
            <a:ext cx="46432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ndmill is powered by wind without no wind their will be n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to power the wind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56:14Z</dcterms:created>
  <dc:creator>HWDSB</dc:creator>
  <dc:description/>
  <dc:language>en-US</dc:language>
  <cp:lastModifiedBy>HWDSB</cp:lastModifiedBy>
  <dcterms:modified xsi:type="dcterms:W3CDTF">2011-01-19T15:26:55Z</dcterms:modified>
  <cp:revision>2</cp:revision>
  <dc:subject/>
  <dc:title>Slide 1</dc:title>
</cp:coreProperties>
</file>